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3.wmf" ContentType="image/x-wmf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50.png" ContentType="image/png"/>
  <Override PartName="/ppt/media/image48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34.wmf" ContentType="image/x-wmf"/>
  <Override PartName="/ppt/media/image15.png" ContentType="image/png"/>
  <Override PartName="/ppt/media/image16.png" ContentType="image/png"/>
  <Override PartName="/ppt/media/image57.wmf" ContentType="image/x-wmf"/>
  <Override PartName="/ppt/media/image20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70.wmf" ContentType="image/x-wmf"/>
  <Override PartName="/ppt/media/image67.png" ContentType="image/png"/>
  <Override PartName="/ppt/media/image30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.png" ContentType="image/png"/>
  <Override PartName="/ppt/media/image14.png" ContentType="image/png"/>
  <Override PartName="/ppt/media/image58.png" ContentType="image/png"/>
  <Override PartName="/ppt/media/image3.wmf" ContentType="image/x-wmf"/>
  <Override PartName="/ppt/media/image33.wmf" ContentType="image/x-wmf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1.png" ContentType="image/png"/>
  <Override PartName="/ppt/media/image4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7E3-25D2-4E43-97D0-E2271579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3655-2681-42F0-9D4C-A3F69D8A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88D-8767-4164-9D5D-0EC49298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3B4-FD83-4C60-8F73-3446EFB42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1885-B61B-4A79-822E-F3626F49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CD63-1701-42D1-87C9-1830FECB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348-8455-45FA-9F85-E6601C2E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435B-22F1-402E-A3B0-A0708534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357F-FC3A-4D9F-AF5E-3D5B653B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621-36C9-4638-98D0-7E08A66F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82FB-97C5-4663-AC5D-5B1D20BA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7149-2025-42F9-9BB9-16883283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70FB-4127-4E27-9D5E-723AABC9E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8.wmf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2.wmf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wmf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9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0.wmf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362320"/>
            <a:ext cx="838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erties of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5105520" cy="3236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8610480" cy="774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220968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is the function increa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19760" y="2224080"/>
            <a:ext cx="0" cy="4191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5880" y="2209680"/>
            <a:ext cx="0" cy="4191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85800" y="3740040"/>
            <a:ext cx="2057400" cy="451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295280" y="4800600"/>
            <a:ext cx="1295640" cy="474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898880" y="3306600"/>
            <a:ext cx="1185840" cy="1758960"/>
          </a:xfrm>
          <a:custGeom>
            <a:avLst/>
            <a:gdLst/>
            <a:ahLst/>
            <a:rect l="l" t="t" r="r" b="b"/>
            <a:pathLst>
              <a:path w="3292" h="4885">
                <a:moveTo>
                  <a:pt x="13610" y="14041"/>
                </a:moveTo>
                <a:cubicBezTo>
                  <a:pt x="13611" y="14041"/>
                  <a:pt x="13611" y="14042"/>
                  <a:pt x="13612" y="14042"/>
                </a:cubicBezTo>
                <a:cubicBezTo>
                  <a:pt x="13631" y="14044"/>
                  <a:pt x="13632" y="14055"/>
                  <a:pt x="13651" y="14057"/>
                </a:cubicBezTo>
                <a:cubicBezTo>
                  <a:pt x="13744" y="14067"/>
                  <a:pt x="13798" y="14053"/>
                  <a:pt x="13889" y="14024"/>
                </a:cubicBezTo>
                <a:cubicBezTo>
                  <a:pt x="14016" y="13984"/>
                  <a:pt x="14143" y="13936"/>
                  <a:pt x="14267" y="13885"/>
                </a:cubicBezTo>
                <a:cubicBezTo>
                  <a:pt x="14390" y="13834"/>
                  <a:pt x="14453" y="13776"/>
                  <a:pt x="14541" y="13676"/>
                </a:cubicBezTo>
                <a:cubicBezTo>
                  <a:pt x="14609" y="13599"/>
                  <a:pt x="14680" y="13515"/>
                  <a:pt x="14739" y="13433"/>
                </a:cubicBezTo>
                <a:cubicBezTo>
                  <a:pt x="14794" y="13357"/>
                  <a:pt x="14838" y="13275"/>
                  <a:pt x="14887" y="13196"/>
                </a:cubicBezTo>
                <a:cubicBezTo>
                  <a:pt x="14933" y="13123"/>
                  <a:pt x="14977" y="13051"/>
                  <a:pt x="15022" y="12977"/>
                </a:cubicBezTo>
                <a:cubicBezTo>
                  <a:pt x="15072" y="12894"/>
                  <a:pt x="15123" y="12812"/>
                  <a:pt x="15165" y="12725"/>
                </a:cubicBezTo>
                <a:cubicBezTo>
                  <a:pt x="15217" y="12617"/>
                  <a:pt x="15254" y="12502"/>
                  <a:pt x="15285" y="12389"/>
                </a:cubicBezTo>
                <a:cubicBezTo>
                  <a:pt x="15306" y="12312"/>
                  <a:pt x="15313" y="12231"/>
                  <a:pt x="15335" y="12154"/>
                </a:cubicBezTo>
                <a:cubicBezTo>
                  <a:pt x="15362" y="12059"/>
                  <a:pt x="15419" y="11969"/>
                  <a:pt x="15437" y="11871"/>
                </a:cubicBezTo>
                <a:cubicBezTo>
                  <a:pt x="15455" y="11773"/>
                  <a:pt x="15437" y="11670"/>
                  <a:pt x="15440" y="11570"/>
                </a:cubicBezTo>
                <a:cubicBezTo>
                  <a:pt x="15442" y="11501"/>
                  <a:pt x="15441" y="11429"/>
                  <a:pt x="15447" y="11360"/>
                </a:cubicBezTo>
                <a:cubicBezTo>
                  <a:pt x="15454" y="11278"/>
                  <a:pt x="15460" y="11194"/>
                  <a:pt x="15468" y="11112"/>
                </a:cubicBezTo>
                <a:cubicBezTo>
                  <a:pt x="15496" y="10827"/>
                  <a:pt x="15541" y="10597"/>
                  <a:pt x="15651" y="10338"/>
                </a:cubicBezTo>
                <a:cubicBezTo>
                  <a:pt x="15746" y="10114"/>
                  <a:pt x="15851" y="9999"/>
                  <a:pt x="16026" y="9845"/>
                </a:cubicBezTo>
                <a:cubicBezTo>
                  <a:pt x="16117" y="9765"/>
                  <a:pt x="16201" y="9674"/>
                  <a:pt x="16287" y="9588"/>
                </a:cubicBezTo>
                <a:cubicBezTo>
                  <a:pt x="16323" y="9552"/>
                  <a:pt x="16354" y="9515"/>
                  <a:pt x="16391" y="9481"/>
                </a:cubicBezTo>
                <a:cubicBezTo>
                  <a:pt x="16463" y="9415"/>
                  <a:pt x="16541" y="9349"/>
                  <a:pt x="16625" y="9298"/>
                </a:cubicBezTo>
                <a:cubicBezTo>
                  <a:pt x="16699" y="9253"/>
                  <a:pt x="16768" y="9241"/>
                  <a:pt x="16845" y="9212"/>
                </a:cubicBezTo>
                <a:cubicBezTo>
                  <a:pt x="16862" y="9206"/>
                  <a:pt x="16878" y="9197"/>
                  <a:pt x="16894" y="9191"/>
                </a:cubicBezTo>
                <a:cubicBezTo>
                  <a:pt x="16895" y="9191"/>
                  <a:pt x="16897" y="9189"/>
                  <a:pt x="16901" y="9188"/>
                </a:cubicBezTo>
                <a:cubicBezTo>
                  <a:pt x="16894" y="9193"/>
                  <a:pt x="16899" y="9181"/>
                  <a:pt x="16887" y="9191"/>
                </a:cubicBezTo>
                <a:cubicBezTo>
                  <a:pt x="16885" y="9193"/>
                  <a:pt x="16880" y="9201"/>
                  <a:pt x="16880" y="9201"/>
                </a:cubicBezTo>
              </a:path>
              <a:path w="3292" h="4885">
                <a:moveTo>
                  <a:pt x="16891" y="9193"/>
                </a:moveTo>
                <a:cubicBezTo>
                  <a:pt x="16885" y="9190"/>
                  <a:pt x="16883" y="9188"/>
                  <a:pt x="16882" y="9188"/>
                </a:cubicBezTo>
                <a:cubicBezTo>
                  <a:pt x="16865" y="9191"/>
                  <a:pt x="16883" y="9192"/>
                  <a:pt x="16860" y="9191"/>
                </a:cubicBezTo>
              </a:path>
              <a:path w="3292" h="4885">
                <a:moveTo>
                  <a:pt x="15079" y="10972"/>
                </a:moveTo>
                <a:cubicBezTo>
                  <a:pt x="15067" y="10953"/>
                  <a:pt x="15083" y="10979"/>
                  <a:pt x="15072" y="10961"/>
                </a:cubicBezTo>
                <a:cubicBezTo>
                  <a:pt x="15073" y="10961"/>
                  <a:pt x="15070" y="10965"/>
                  <a:pt x="15072" y="10964"/>
                </a:cubicBezTo>
                <a:cubicBezTo>
                  <a:pt x="15075" y="10963"/>
                  <a:pt x="15070" y="10962"/>
                  <a:pt x="15079" y="10959"/>
                </a:cubicBezTo>
                <a:cubicBezTo>
                  <a:pt x="15097" y="10952"/>
                  <a:pt x="15114" y="10944"/>
                  <a:pt x="15132" y="10936"/>
                </a:cubicBezTo>
                <a:cubicBezTo>
                  <a:pt x="15165" y="10922"/>
                  <a:pt x="15196" y="10907"/>
                  <a:pt x="15227" y="10890"/>
                </a:cubicBezTo>
                <a:cubicBezTo>
                  <a:pt x="15262" y="10871"/>
                  <a:pt x="15297" y="10854"/>
                  <a:pt x="15332" y="10835"/>
                </a:cubicBezTo>
                <a:cubicBezTo>
                  <a:pt x="15369" y="10815"/>
                  <a:pt x="15408" y="10793"/>
                  <a:pt x="15443" y="10770"/>
                </a:cubicBezTo>
                <a:cubicBezTo>
                  <a:pt x="15472" y="10751"/>
                  <a:pt x="15498" y="10733"/>
                  <a:pt x="15530" y="10719"/>
                </a:cubicBezTo>
                <a:cubicBezTo>
                  <a:pt x="15552" y="10710"/>
                  <a:pt x="15570" y="10706"/>
                  <a:pt x="15593" y="10703"/>
                </a:cubicBezTo>
                <a:cubicBezTo>
                  <a:pt x="15606" y="10701"/>
                  <a:pt x="15619" y="10696"/>
                  <a:pt x="15631" y="10695"/>
                </a:cubicBezTo>
                <a:cubicBezTo>
                  <a:pt x="15636" y="10694"/>
                  <a:pt x="15637" y="10692"/>
                  <a:pt x="15642" y="10692"/>
                </a:cubicBezTo>
                <a:cubicBezTo>
                  <a:pt x="15644" y="10692"/>
                  <a:pt x="15644" y="10693"/>
                  <a:pt x="15644" y="10695"/>
                </a:cubicBezTo>
                <a:cubicBezTo>
                  <a:pt x="15644" y="10695"/>
                  <a:pt x="15643" y="10694"/>
                  <a:pt x="15643" y="10698"/>
                </a:cubicBezTo>
                <a:cubicBezTo>
                  <a:pt x="15643" y="10700"/>
                  <a:pt x="15642" y="10696"/>
                  <a:pt x="15642" y="10698"/>
                </a:cubicBezTo>
                <a:cubicBezTo>
                  <a:pt x="15643" y="10701"/>
                  <a:pt x="15643" y="10700"/>
                  <a:pt x="15643" y="10703"/>
                </a:cubicBezTo>
                <a:cubicBezTo>
                  <a:pt x="15644" y="10709"/>
                  <a:pt x="15645" y="10712"/>
                  <a:pt x="15646" y="10719"/>
                </a:cubicBezTo>
                <a:cubicBezTo>
                  <a:pt x="15651" y="10742"/>
                  <a:pt x="15653" y="10766"/>
                  <a:pt x="15660" y="10789"/>
                </a:cubicBezTo>
                <a:cubicBezTo>
                  <a:pt x="15673" y="10834"/>
                  <a:pt x="15688" y="10879"/>
                  <a:pt x="15702" y="10923"/>
                </a:cubicBezTo>
                <a:cubicBezTo>
                  <a:pt x="15718" y="10974"/>
                  <a:pt x="15735" y="11023"/>
                  <a:pt x="15748" y="11075"/>
                </a:cubicBezTo>
                <a:cubicBezTo>
                  <a:pt x="15756" y="11109"/>
                  <a:pt x="15772" y="11144"/>
                  <a:pt x="15776" y="11179"/>
                </a:cubicBezTo>
                <a:cubicBezTo>
                  <a:pt x="15777" y="11192"/>
                  <a:pt x="15774" y="11209"/>
                  <a:pt x="15780" y="11221"/>
                </a:cubicBezTo>
                <a:cubicBezTo>
                  <a:pt x="15784" y="11230"/>
                  <a:pt x="15780" y="11229"/>
                  <a:pt x="15793" y="11232"/>
                </a:cubicBezTo>
                <a:cubicBezTo>
                  <a:pt x="15804" y="11234"/>
                  <a:pt x="15807" y="11232"/>
                  <a:pt x="15818" y="11232"/>
                </a:cubicBezTo>
                <a:cubicBezTo>
                  <a:pt x="15818" y="11231"/>
                  <a:pt x="15817" y="11231"/>
                  <a:pt x="15817" y="11230"/>
                </a:cubicBezTo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5105520" cy="3236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8610480" cy="774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220968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is the function decrea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30800" y="2209680"/>
            <a:ext cx="0" cy="4191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15080" y="2209680"/>
            <a:ext cx="0" cy="4191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46920" y="2247840"/>
            <a:ext cx="0" cy="4191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10560" y="2247840"/>
            <a:ext cx="0" cy="4191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0160" y="4478400"/>
            <a:ext cx="620640" cy="600120"/>
          </a:xfrm>
          <a:custGeom>
            <a:avLst/>
            <a:gdLst/>
            <a:ahLst/>
            <a:rect l="l" t="t" r="r" b="b"/>
            <a:pathLst>
              <a:path w="1724" h="1666">
                <a:moveTo>
                  <a:pt x="12077" y="12442"/>
                </a:moveTo>
                <a:cubicBezTo>
                  <a:pt x="12076" y="12446"/>
                  <a:pt x="12075" y="12444"/>
                  <a:pt x="12073" y="12450"/>
                </a:cubicBezTo>
                <a:cubicBezTo>
                  <a:pt x="12073" y="12451"/>
                  <a:pt x="12068" y="12455"/>
                  <a:pt x="12067" y="12460"/>
                </a:cubicBezTo>
                <a:cubicBezTo>
                  <a:pt x="12064" y="12473"/>
                  <a:pt x="12060" y="12487"/>
                  <a:pt x="12059" y="12501"/>
                </a:cubicBezTo>
                <a:cubicBezTo>
                  <a:pt x="12053" y="12574"/>
                  <a:pt x="12067" y="12650"/>
                  <a:pt x="12072" y="12723"/>
                </a:cubicBezTo>
                <a:cubicBezTo>
                  <a:pt x="12073" y="12742"/>
                  <a:pt x="12075" y="12761"/>
                  <a:pt x="12076" y="12781"/>
                </a:cubicBezTo>
                <a:cubicBezTo>
                  <a:pt x="12077" y="12801"/>
                  <a:pt x="12078" y="12823"/>
                  <a:pt x="12081" y="12843"/>
                </a:cubicBezTo>
                <a:cubicBezTo>
                  <a:pt x="12087" y="12883"/>
                  <a:pt x="12101" y="12919"/>
                  <a:pt x="12113" y="12957"/>
                </a:cubicBezTo>
                <a:cubicBezTo>
                  <a:pt x="12120" y="12978"/>
                  <a:pt x="12127" y="12998"/>
                  <a:pt x="12132" y="13019"/>
                </a:cubicBezTo>
                <a:cubicBezTo>
                  <a:pt x="12136" y="13036"/>
                  <a:pt x="12139" y="13056"/>
                  <a:pt x="12142" y="13073"/>
                </a:cubicBezTo>
                <a:cubicBezTo>
                  <a:pt x="12145" y="13090"/>
                  <a:pt x="12143" y="13109"/>
                  <a:pt x="12150" y="13125"/>
                </a:cubicBezTo>
                <a:cubicBezTo>
                  <a:pt x="12165" y="13159"/>
                  <a:pt x="12192" y="13186"/>
                  <a:pt x="12210" y="13218"/>
                </a:cubicBezTo>
                <a:cubicBezTo>
                  <a:pt x="12242" y="13274"/>
                  <a:pt x="12269" y="13335"/>
                  <a:pt x="12303" y="13390"/>
                </a:cubicBezTo>
                <a:cubicBezTo>
                  <a:pt x="12335" y="13441"/>
                  <a:pt x="12377" y="13479"/>
                  <a:pt x="12416" y="13523"/>
                </a:cubicBezTo>
                <a:cubicBezTo>
                  <a:pt x="12444" y="13555"/>
                  <a:pt x="12469" y="13590"/>
                  <a:pt x="12497" y="13623"/>
                </a:cubicBezTo>
                <a:cubicBezTo>
                  <a:pt x="12543" y="13677"/>
                  <a:pt x="12594" y="13722"/>
                  <a:pt x="12648" y="13767"/>
                </a:cubicBezTo>
                <a:cubicBezTo>
                  <a:pt x="12713" y="13821"/>
                  <a:pt x="12788" y="13863"/>
                  <a:pt x="12862" y="13903"/>
                </a:cubicBezTo>
                <a:cubicBezTo>
                  <a:pt x="12892" y="13919"/>
                  <a:pt x="12921" y="13936"/>
                  <a:pt x="12951" y="13953"/>
                </a:cubicBezTo>
                <a:cubicBezTo>
                  <a:pt x="12969" y="13963"/>
                  <a:pt x="12985" y="13973"/>
                  <a:pt x="13003" y="13982"/>
                </a:cubicBezTo>
                <a:cubicBezTo>
                  <a:pt x="13032" y="13997"/>
                  <a:pt x="13064" y="14008"/>
                  <a:pt x="13093" y="14021"/>
                </a:cubicBezTo>
                <a:cubicBezTo>
                  <a:pt x="13161" y="14051"/>
                  <a:pt x="13231" y="14067"/>
                  <a:pt x="13304" y="14083"/>
                </a:cubicBezTo>
                <a:cubicBezTo>
                  <a:pt x="13316" y="14086"/>
                  <a:pt x="13328" y="14089"/>
                  <a:pt x="13340" y="14091"/>
                </a:cubicBezTo>
                <a:cubicBezTo>
                  <a:pt x="13361" y="14095"/>
                  <a:pt x="13380" y="14100"/>
                  <a:pt x="13401" y="14102"/>
                </a:cubicBezTo>
                <a:cubicBezTo>
                  <a:pt x="13429" y="14105"/>
                  <a:pt x="13457" y="14105"/>
                  <a:pt x="13485" y="14104"/>
                </a:cubicBezTo>
                <a:cubicBezTo>
                  <a:pt x="13525" y="14102"/>
                  <a:pt x="13563" y="14102"/>
                  <a:pt x="13603" y="14103"/>
                </a:cubicBezTo>
                <a:cubicBezTo>
                  <a:pt x="13644" y="14104"/>
                  <a:pt x="13677" y="14090"/>
                  <a:pt x="13716" y="14089"/>
                </a:cubicBezTo>
                <a:cubicBezTo>
                  <a:pt x="13730" y="14089"/>
                  <a:pt x="13752" y="14095"/>
                  <a:pt x="13761" y="14095"/>
                </a:cubicBezTo>
                <a:cubicBezTo>
                  <a:pt x="13771" y="14095"/>
                  <a:pt x="13769" y="14092"/>
                  <a:pt x="13780" y="14092"/>
                </a:cubicBezTo>
                <a:cubicBezTo>
                  <a:pt x="13774" y="14079"/>
                  <a:pt x="13778" y="14088"/>
                  <a:pt x="13769" y="14070"/>
                </a:cubicBezTo>
              </a:path>
              <a:path w="1724" h="1666">
                <a:moveTo>
                  <a:pt x="12231" y="13709"/>
                </a:moveTo>
                <a:cubicBezTo>
                  <a:pt x="12235" y="13713"/>
                  <a:pt x="12231" y="13709"/>
                  <a:pt x="12235" y="13713"/>
                </a:cubicBezTo>
                <a:cubicBezTo>
                  <a:pt x="12248" y="13725"/>
                  <a:pt x="12259" y="13741"/>
                  <a:pt x="12272" y="13752"/>
                </a:cubicBezTo>
                <a:cubicBezTo>
                  <a:pt x="12290" y="13767"/>
                  <a:pt x="12312" y="13785"/>
                  <a:pt x="12332" y="13796"/>
                </a:cubicBezTo>
                <a:cubicBezTo>
                  <a:pt x="12364" y="13814"/>
                  <a:pt x="12399" y="13828"/>
                  <a:pt x="12433" y="13841"/>
                </a:cubicBezTo>
                <a:cubicBezTo>
                  <a:pt x="12487" y="13862"/>
                  <a:pt x="12543" y="13873"/>
                  <a:pt x="12599" y="13885"/>
                </a:cubicBezTo>
                <a:cubicBezTo>
                  <a:pt x="12637" y="13893"/>
                  <a:pt x="12674" y="13903"/>
                  <a:pt x="12712" y="13909"/>
                </a:cubicBezTo>
                <a:cubicBezTo>
                  <a:pt x="12736" y="13913"/>
                  <a:pt x="12758" y="13916"/>
                  <a:pt x="12782" y="13917"/>
                </a:cubicBezTo>
                <a:cubicBezTo>
                  <a:pt x="12785" y="13917"/>
                  <a:pt x="12789" y="13916"/>
                  <a:pt x="12793" y="13916"/>
                </a:cubicBezTo>
                <a:cubicBezTo>
                  <a:pt x="12794" y="13911"/>
                  <a:pt x="12792" y="13906"/>
                  <a:pt x="12793" y="13901"/>
                </a:cubicBezTo>
                <a:cubicBezTo>
                  <a:pt x="12794" y="13897"/>
                  <a:pt x="12796" y="13893"/>
                  <a:pt x="12797" y="13889"/>
                </a:cubicBezTo>
                <a:cubicBezTo>
                  <a:pt x="12798" y="13885"/>
                  <a:pt x="12801" y="13880"/>
                  <a:pt x="12802" y="13875"/>
                </a:cubicBezTo>
                <a:cubicBezTo>
                  <a:pt x="12804" y="13862"/>
                  <a:pt x="12803" y="13848"/>
                  <a:pt x="12806" y="13835"/>
                </a:cubicBezTo>
                <a:cubicBezTo>
                  <a:pt x="12815" y="13797"/>
                  <a:pt x="12820" y="13761"/>
                  <a:pt x="12825" y="13722"/>
                </a:cubicBezTo>
                <a:cubicBezTo>
                  <a:pt x="12833" y="13661"/>
                  <a:pt x="12843" y="13601"/>
                  <a:pt x="12846" y="13539"/>
                </a:cubicBezTo>
                <a:cubicBezTo>
                  <a:pt x="12848" y="13483"/>
                  <a:pt x="12852" y="13419"/>
                  <a:pt x="12836" y="13365"/>
                </a:cubicBezTo>
                <a:cubicBezTo>
                  <a:pt x="12832" y="13351"/>
                  <a:pt x="12830" y="13336"/>
                  <a:pt x="12821" y="13324"/>
                </a:cubicBezTo>
                <a:cubicBezTo>
                  <a:pt x="12818" y="13320"/>
                  <a:pt x="12813" y="13321"/>
                  <a:pt x="12808" y="13319"/>
                </a:cubicBezTo>
                <a:cubicBezTo>
                  <a:pt x="12801" y="13316"/>
                  <a:pt x="12810" y="13321"/>
                  <a:pt x="12802" y="13320"/>
                </a:cubicBezTo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34320" y="3317760"/>
            <a:ext cx="893520" cy="930240"/>
          </a:xfrm>
          <a:custGeom>
            <a:avLst/>
            <a:gdLst/>
            <a:ahLst/>
            <a:rect l="l" t="t" r="r" b="b"/>
            <a:pathLst>
              <a:path w="2482" h="2584">
                <a:moveTo>
                  <a:pt x="19270" y="9220"/>
                </a:moveTo>
                <a:cubicBezTo>
                  <a:pt x="19265" y="9218"/>
                  <a:pt x="19261" y="9216"/>
                  <a:pt x="19265" y="9218"/>
                </a:cubicBezTo>
                <a:cubicBezTo>
                  <a:pt x="19265" y="9219"/>
                  <a:pt x="19266" y="9218"/>
                  <a:pt x="19267" y="9220"/>
                </a:cubicBezTo>
                <a:cubicBezTo>
                  <a:pt x="19269" y="9227"/>
                  <a:pt x="19275" y="9226"/>
                  <a:pt x="19277" y="9233"/>
                </a:cubicBezTo>
                <a:cubicBezTo>
                  <a:pt x="19281" y="9244"/>
                  <a:pt x="19290" y="9261"/>
                  <a:pt x="19294" y="9276"/>
                </a:cubicBezTo>
                <a:cubicBezTo>
                  <a:pt x="19304" y="9311"/>
                  <a:pt x="19313" y="9345"/>
                  <a:pt x="19327" y="9379"/>
                </a:cubicBezTo>
                <a:cubicBezTo>
                  <a:pt x="19342" y="9418"/>
                  <a:pt x="19367" y="9454"/>
                  <a:pt x="19388" y="9491"/>
                </a:cubicBezTo>
                <a:cubicBezTo>
                  <a:pt x="19419" y="9545"/>
                  <a:pt x="19456" y="9595"/>
                  <a:pt x="19488" y="9647"/>
                </a:cubicBezTo>
                <a:cubicBezTo>
                  <a:pt x="19506" y="9676"/>
                  <a:pt x="19531" y="9711"/>
                  <a:pt x="19545" y="9741"/>
                </a:cubicBezTo>
                <a:cubicBezTo>
                  <a:pt x="19561" y="9775"/>
                  <a:pt x="19570" y="9815"/>
                  <a:pt x="19587" y="9850"/>
                </a:cubicBezTo>
                <a:cubicBezTo>
                  <a:pt x="19608" y="9892"/>
                  <a:pt x="19623" y="9935"/>
                  <a:pt x="19639" y="9978"/>
                </a:cubicBezTo>
                <a:cubicBezTo>
                  <a:pt x="19658" y="10030"/>
                  <a:pt x="19678" y="10086"/>
                  <a:pt x="19699" y="10136"/>
                </a:cubicBezTo>
                <a:cubicBezTo>
                  <a:pt x="19720" y="10184"/>
                  <a:pt x="19745" y="10229"/>
                  <a:pt x="19767" y="10273"/>
                </a:cubicBezTo>
                <a:cubicBezTo>
                  <a:pt x="19779" y="10297"/>
                  <a:pt x="19790" y="10320"/>
                  <a:pt x="19801" y="10344"/>
                </a:cubicBezTo>
                <a:cubicBezTo>
                  <a:pt x="19815" y="10375"/>
                  <a:pt x="19832" y="10404"/>
                  <a:pt x="19845" y="10434"/>
                </a:cubicBezTo>
                <a:cubicBezTo>
                  <a:pt x="19853" y="10452"/>
                  <a:pt x="19853" y="10469"/>
                  <a:pt x="19862" y="10487"/>
                </a:cubicBezTo>
                <a:cubicBezTo>
                  <a:pt x="19867" y="10498"/>
                  <a:pt x="19871" y="10517"/>
                  <a:pt x="19877" y="10528"/>
                </a:cubicBezTo>
                <a:cubicBezTo>
                  <a:pt x="19885" y="10543"/>
                  <a:pt x="19904" y="10561"/>
                  <a:pt x="19911" y="10574"/>
                </a:cubicBezTo>
                <a:cubicBezTo>
                  <a:pt x="19926" y="10603"/>
                  <a:pt x="19944" y="10636"/>
                  <a:pt x="19963" y="10661"/>
                </a:cubicBezTo>
                <a:cubicBezTo>
                  <a:pt x="19974" y="10676"/>
                  <a:pt x="19984" y="10689"/>
                  <a:pt x="19995" y="10703"/>
                </a:cubicBezTo>
                <a:cubicBezTo>
                  <a:pt x="20009" y="10721"/>
                  <a:pt x="20029" y="10731"/>
                  <a:pt x="20043" y="10748"/>
                </a:cubicBezTo>
                <a:cubicBezTo>
                  <a:pt x="20063" y="10774"/>
                  <a:pt x="20081" y="10817"/>
                  <a:pt x="20105" y="10840"/>
                </a:cubicBezTo>
                <a:cubicBezTo>
                  <a:pt x="20126" y="10860"/>
                  <a:pt x="20158" y="10884"/>
                  <a:pt x="20181" y="10901"/>
                </a:cubicBezTo>
                <a:cubicBezTo>
                  <a:pt x="20218" y="10929"/>
                  <a:pt x="20258" y="10945"/>
                  <a:pt x="20294" y="10976"/>
                </a:cubicBezTo>
                <a:cubicBezTo>
                  <a:pt x="20323" y="11001"/>
                  <a:pt x="20346" y="11034"/>
                  <a:pt x="20375" y="11059"/>
                </a:cubicBezTo>
                <a:cubicBezTo>
                  <a:pt x="20414" y="11092"/>
                  <a:pt x="20465" y="11117"/>
                  <a:pt x="20508" y="11146"/>
                </a:cubicBezTo>
                <a:cubicBezTo>
                  <a:pt x="20539" y="11168"/>
                  <a:pt x="20569" y="11195"/>
                  <a:pt x="20598" y="11221"/>
                </a:cubicBezTo>
                <a:cubicBezTo>
                  <a:pt x="20614" y="11235"/>
                  <a:pt x="20614" y="11252"/>
                  <a:pt x="20625" y="11263"/>
                </a:cubicBezTo>
                <a:cubicBezTo>
                  <a:pt x="20645" y="11283"/>
                  <a:pt x="20665" y="11299"/>
                  <a:pt x="20683" y="11317"/>
                </a:cubicBezTo>
                <a:cubicBezTo>
                  <a:pt x="20695" y="11329"/>
                  <a:pt x="20714" y="11347"/>
                  <a:pt x="20722" y="11354"/>
                </a:cubicBezTo>
                <a:cubicBezTo>
                  <a:pt x="20736" y="11367"/>
                  <a:pt x="20748" y="11376"/>
                  <a:pt x="20763" y="11387"/>
                </a:cubicBezTo>
                <a:cubicBezTo>
                  <a:pt x="20784" y="11402"/>
                  <a:pt x="20802" y="11409"/>
                  <a:pt x="20823" y="11423"/>
                </a:cubicBezTo>
                <a:cubicBezTo>
                  <a:pt x="20847" y="11438"/>
                  <a:pt x="20872" y="11448"/>
                  <a:pt x="20894" y="11464"/>
                </a:cubicBezTo>
                <a:cubicBezTo>
                  <a:pt x="20909" y="11474"/>
                  <a:pt x="20933" y="11500"/>
                  <a:pt x="20946" y="11508"/>
                </a:cubicBezTo>
                <a:cubicBezTo>
                  <a:pt x="21002" y="11542"/>
                  <a:pt x="21064" y="11563"/>
                  <a:pt x="21125" y="11586"/>
                </a:cubicBezTo>
                <a:cubicBezTo>
                  <a:pt x="21179" y="11607"/>
                  <a:pt x="21233" y="11633"/>
                  <a:pt x="21289" y="11647"/>
                </a:cubicBezTo>
                <a:cubicBezTo>
                  <a:pt x="21352" y="11663"/>
                  <a:pt x="21432" y="11652"/>
                  <a:pt x="21487" y="11677"/>
                </a:cubicBezTo>
                <a:cubicBezTo>
                  <a:pt x="21534" y="11698"/>
                  <a:pt x="21558" y="11737"/>
                  <a:pt x="21607" y="11754"/>
                </a:cubicBezTo>
                <a:cubicBezTo>
                  <a:pt x="21621" y="11759"/>
                  <a:pt x="21632" y="11763"/>
                  <a:pt x="21646" y="11767"/>
                </a:cubicBezTo>
                <a:cubicBezTo>
                  <a:pt x="21662" y="11772"/>
                  <a:pt x="21682" y="11767"/>
                  <a:pt x="21699" y="11771"/>
                </a:cubicBezTo>
                <a:cubicBezTo>
                  <a:pt x="21713" y="11774"/>
                  <a:pt x="21731" y="11783"/>
                  <a:pt x="21740" y="11785"/>
                </a:cubicBezTo>
                <a:cubicBezTo>
                  <a:pt x="21740" y="11788"/>
                  <a:pt x="21740" y="11788"/>
                  <a:pt x="21742" y="11783"/>
                </a:cubicBezTo>
                <a:cubicBezTo>
                  <a:pt x="21740" y="11785"/>
                  <a:pt x="21741" y="11785"/>
                  <a:pt x="21739" y="11787"/>
                </a:cubicBezTo>
                <a:cubicBezTo>
                  <a:pt x="21733" y="11793"/>
                  <a:pt x="21727" y="11786"/>
                  <a:pt x="21722" y="11793"/>
                </a:cubicBezTo>
                <a:cubicBezTo>
                  <a:pt x="21726" y="11800"/>
                  <a:pt x="21727" y="11802"/>
                  <a:pt x="21719" y="11795"/>
                </a:cubicBezTo>
              </a:path>
              <a:path w="2482" h="2584">
                <a:moveTo>
                  <a:pt x="19921" y="10930"/>
                </a:moveTo>
                <a:cubicBezTo>
                  <a:pt x="19927" y="10935"/>
                  <a:pt x="19929" y="10937"/>
                  <a:pt x="19919" y="10931"/>
                </a:cubicBezTo>
                <a:cubicBezTo>
                  <a:pt x="19924" y="10931"/>
                  <a:pt x="19932" y="10931"/>
                  <a:pt x="19939" y="10932"/>
                </a:cubicBezTo>
                <a:cubicBezTo>
                  <a:pt x="19939" y="10932"/>
                  <a:pt x="19952" y="10935"/>
                  <a:pt x="19955" y="10936"/>
                </a:cubicBezTo>
                <a:cubicBezTo>
                  <a:pt x="19973" y="10943"/>
                  <a:pt x="19989" y="10952"/>
                  <a:pt x="20008" y="10959"/>
                </a:cubicBezTo>
                <a:cubicBezTo>
                  <a:pt x="20064" y="10978"/>
                  <a:pt x="20115" y="11007"/>
                  <a:pt x="20170" y="11027"/>
                </a:cubicBezTo>
                <a:cubicBezTo>
                  <a:pt x="20224" y="11046"/>
                  <a:pt x="20278" y="11066"/>
                  <a:pt x="20332" y="11087"/>
                </a:cubicBezTo>
                <a:cubicBezTo>
                  <a:pt x="20371" y="11102"/>
                  <a:pt x="20412" y="11111"/>
                  <a:pt x="20452" y="11122"/>
                </a:cubicBezTo>
                <a:cubicBezTo>
                  <a:pt x="20465" y="11126"/>
                  <a:pt x="20472" y="11129"/>
                  <a:pt x="20484" y="11127"/>
                </a:cubicBezTo>
                <a:cubicBezTo>
                  <a:pt x="20486" y="11125"/>
                  <a:pt x="20489" y="11124"/>
                  <a:pt x="20491" y="11122"/>
                </a:cubicBezTo>
                <a:cubicBezTo>
                  <a:pt x="20483" y="11114"/>
                  <a:pt x="20476" y="11109"/>
                  <a:pt x="20472" y="11098"/>
                </a:cubicBezTo>
                <a:cubicBezTo>
                  <a:pt x="20470" y="11091"/>
                  <a:pt x="20461" y="11075"/>
                  <a:pt x="20461" y="11068"/>
                </a:cubicBezTo>
                <a:cubicBezTo>
                  <a:pt x="20460" y="11053"/>
                  <a:pt x="20469" y="11038"/>
                  <a:pt x="20471" y="11023"/>
                </a:cubicBezTo>
                <a:cubicBezTo>
                  <a:pt x="20476" y="10988"/>
                  <a:pt x="20475" y="10953"/>
                  <a:pt x="20479" y="10919"/>
                </a:cubicBezTo>
                <a:cubicBezTo>
                  <a:pt x="20483" y="10887"/>
                  <a:pt x="20476" y="10844"/>
                  <a:pt x="20481" y="10816"/>
                </a:cubicBezTo>
                <a:cubicBezTo>
                  <a:pt x="20485" y="10809"/>
                  <a:pt x="20488" y="10802"/>
                  <a:pt x="20492" y="10795"/>
                </a:cubicBezTo>
              </a:path>
              <a:path w="2482" h="2584">
                <a:moveTo>
                  <a:pt x="20452" y="10654"/>
                </a:moveTo>
                <a:cubicBezTo>
                  <a:pt x="20457" y="10660"/>
                  <a:pt x="20451" y="10655"/>
                  <a:pt x="20456" y="10661"/>
                </a:cubicBezTo>
                <a:cubicBezTo>
                  <a:pt x="20463" y="10670"/>
                  <a:pt x="20449" y="10668"/>
                  <a:pt x="20465" y="10685"/>
                </a:cubicBezTo>
                <a:cubicBezTo>
                  <a:pt x="20482" y="10703"/>
                  <a:pt x="20481" y="10719"/>
                  <a:pt x="20481" y="10744"/>
                </a:cubicBezTo>
                <a:cubicBezTo>
                  <a:pt x="20481" y="10776"/>
                  <a:pt x="20490" y="10805"/>
                  <a:pt x="20489" y="10837"/>
                </a:cubicBezTo>
                <a:cubicBezTo>
                  <a:pt x="20488" y="10862"/>
                  <a:pt x="20489" y="10886"/>
                  <a:pt x="20485" y="10911"/>
                </a:cubicBezTo>
                <a:cubicBezTo>
                  <a:pt x="20484" y="10919"/>
                  <a:pt x="20485" y="10931"/>
                  <a:pt x="20491" y="10938"/>
                </a:cubicBezTo>
                <a:cubicBezTo>
                  <a:pt x="20496" y="10943"/>
                  <a:pt x="20494" y="10939"/>
                  <a:pt x="20492" y="10932"/>
                </a:cubicBezTo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33520" y="3505320"/>
            <a:ext cx="2590560" cy="463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685800" y="5181480"/>
            <a:ext cx="2133720" cy="53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9320" y="4191120"/>
            <a:ext cx="1523880" cy="490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447920" y="5986440"/>
            <a:ext cx="9144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52680" y="2362320"/>
            <a:ext cx="5105520" cy="3236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8610480" cy="77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0880" y="220968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is the function cons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83280" y="2209680"/>
            <a:ext cx="0" cy="4191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46920" y="2247840"/>
            <a:ext cx="0" cy="4191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7680" y="3208320"/>
            <a:ext cx="846000" cy="277920"/>
          </a:xfrm>
          <a:custGeom>
            <a:avLst/>
            <a:gdLst/>
            <a:ahLst/>
            <a:rect l="l" t="t" r="r" b="b"/>
            <a:pathLst>
              <a:path w="2352" h="772">
                <a:moveTo>
                  <a:pt x="16939" y="9304"/>
                </a:moveTo>
                <a:cubicBezTo>
                  <a:pt x="16941" y="9308"/>
                  <a:pt x="16940" y="9308"/>
                  <a:pt x="16941" y="9309"/>
                </a:cubicBezTo>
                <a:cubicBezTo>
                  <a:pt x="16944" y="9313"/>
                  <a:pt x="16940" y="9309"/>
                  <a:pt x="16942" y="9312"/>
                </a:cubicBezTo>
                <a:cubicBezTo>
                  <a:pt x="16943" y="9312"/>
                  <a:pt x="16944" y="9313"/>
                  <a:pt x="16945" y="9313"/>
                </a:cubicBezTo>
                <a:cubicBezTo>
                  <a:pt x="16949" y="9312"/>
                  <a:pt x="16953" y="9312"/>
                  <a:pt x="16959" y="9311"/>
                </a:cubicBezTo>
                <a:cubicBezTo>
                  <a:pt x="16966" y="9310"/>
                  <a:pt x="16978" y="9309"/>
                  <a:pt x="16986" y="9308"/>
                </a:cubicBezTo>
                <a:cubicBezTo>
                  <a:pt x="16998" y="9306"/>
                  <a:pt x="17013" y="9303"/>
                  <a:pt x="17026" y="9300"/>
                </a:cubicBezTo>
                <a:cubicBezTo>
                  <a:pt x="17043" y="9296"/>
                  <a:pt x="17059" y="9292"/>
                  <a:pt x="17076" y="9288"/>
                </a:cubicBezTo>
                <a:cubicBezTo>
                  <a:pt x="17093" y="9284"/>
                  <a:pt x="17108" y="9280"/>
                  <a:pt x="17125" y="9279"/>
                </a:cubicBezTo>
                <a:cubicBezTo>
                  <a:pt x="17169" y="9276"/>
                  <a:pt x="17213" y="9285"/>
                  <a:pt x="17257" y="9279"/>
                </a:cubicBezTo>
                <a:cubicBezTo>
                  <a:pt x="17273" y="9277"/>
                  <a:pt x="17287" y="9272"/>
                  <a:pt x="17303" y="9270"/>
                </a:cubicBezTo>
                <a:cubicBezTo>
                  <a:pt x="17321" y="9268"/>
                  <a:pt x="17342" y="9267"/>
                  <a:pt x="17360" y="9267"/>
                </a:cubicBezTo>
                <a:cubicBezTo>
                  <a:pt x="17386" y="9268"/>
                  <a:pt x="17413" y="9272"/>
                  <a:pt x="17439" y="9275"/>
                </a:cubicBezTo>
                <a:cubicBezTo>
                  <a:pt x="17491" y="9280"/>
                  <a:pt x="17545" y="9281"/>
                  <a:pt x="17597" y="9282"/>
                </a:cubicBezTo>
                <a:cubicBezTo>
                  <a:pt x="17615" y="9282"/>
                  <a:pt x="17632" y="9282"/>
                  <a:pt x="17650" y="9282"/>
                </a:cubicBezTo>
                <a:cubicBezTo>
                  <a:pt x="17713" y="9282"/>
                  <a:pt x="17777" y="9280"/>
                  <a:pt x="17840" y="9275"/>
                </a:cubicBezTo>
                <a:cubicBezTo>
                  <a:pt x="17862" y="9273"/>
                  <a:pt x="17884" y="9273"/>
                  <a:pt x="17906" y="9270"/>
                </a:cubicBezTo>
                <a:cubicBezTo>
                  <a:pt x="17946" y="9265"/>
                  <a:pt x="17986" y="9257"/>
                  <a:pt x="18026" y="9251"/>
                </a:cubicBezTo>
                <a:cubicBezTo>
                  <a:pt x="18040" y="9249"/>
                  <a:pt x="18055" y="9248"/>
                  <a:pt x="18069" y="9246"/>
                </a:cubicBezTo>
                <a:cubicBezTo>
                  <a:pt x="18083" y="9244"/>
                  <a:pt x="18095" y="9240"/>
                  <a:pt x="18109" y="9238"/>
                </a:cubicBezTo>
                <a:cubicBezTo>
                  <a:pt x="18187" y="9225"/>
                  <a:pt x="18260" y="9215"/>
                  <a:pt x="18339" y="9217"/>
                </a:cubicBezTo>
                <a:cubicBezTo>
                  <a:pt x="18365" y="9218"/>
                  <a:pt x="18389" y="9218"/>
                  <a:pt x="18415" y="9218"/>
                </a:cubicBezTo>
                <a:cubicBezTo>
                  <a:pt x="18517" y="9216"/>
                  <a:pt x="18617" y="9204"/>
                  <a:pt x="18719" y="9199"/>
                </a:cubicBezTo>
                <a:cubicBezTo>
                  <a:pt x="18770" y="9196"/>
                  <a:pt x="18806" y="9201"/>
                  <a:pt x="18854" y="9212"/>
                </a:cubicBezTo>
                <a:cubicBezTo>
                  <a:pt x="18865" y="9215"/>
                  <a:pt x="18879" y="9218"/>
                  <a:pt x="18890" y="9220"/>
                </a:cubicBezTo>
                <a:cubicBezTo>
                  <a:pt x="18907" y="9222"/>
                  <a:pt x="18926" y="9219"/>
                  <a:pt x="18943" y="9220"/>
                </a:cubicBezTo>
                <a:cubicBezTo>
                  <a:pt x="18960" y="9221"/>
                  <a:pt x="18975" y="9222"/>
                  <a:pt x="18992" y="9222"/>
                </a:cubicBezTo>
                <a:cubicBezTo>
                  <a:pt x="19031" y="9223"/>
                  <a:pt x="19070" y="9225"/>
                  <a:pt x="19107" y="9222"/>
                </a:cubicBezTo>
                <a:cubicBezTo>
                  <a:pt x="19138" y="9220"/>
                  <a:pt x="19168" y="9211"/>
                  <a:pt x="19198" y="9209"/>
                </a:cubicBezTo>
                <a:cubicBezTo>
                  <a:pt x="19222" y="9207"/>
                  <a:pt x="19257" y="9215"/>
                  <a:pt x="19278" y="9209"/>
                </a:cubicBezTo>
                <a:cubicBezTo>
                  <a:pt x="19283" y="9208"/>
                  <a:pt x="19284" y="9206"/>
                  <a:pt x="19289" y="9204"/>
                </a:cubicBezTo>
                <a:cubicBezTo>
                  <a:pt x="19284" y="9205"/>
                  <a:pt x="19281" y="9205"/>
                  <a:pt x="19278" y="9200"/>
                </a:cubicBezTo>
              </a:path>
              <a:path w="2352" h="772">
                <a:moveTo>
                  <a:pt x="17668" y="8923"/>
                </a:moveTo>
                <a:cubicBezTo>
                  <a:pt x="17661" y="8917"/>
                  <a:pt x="17665" y="8920"/>
                  <a:pt x="17658" y="8915"/>
                </a:cubicBezTo>
                <a:cubicBezTo>
                  <a:pt x="17653" y="8912"/>
                  <a:pt x="17660" y="8916"/>
                  <a:pt x="17655" y="8913"/>
                </a:cubicBezTo>
                <a:cubicBezTo>
                  <a:pt x="17660" y="8913"/>
                  <a:pt x="17662" y="8913"/>
                  <a:pt x="17656" y="8910"/>
                </a:cubicBezTo>
                <a:cubicBezTo>
                  <a:pt x="17662" y="8912"/>
                  <a:pt x="17657" y="8909"/>
                  <a:pt x="17667" y="8913"/>
                </a:cubicBezTo>
                <a:cubicBezTo>
                  <a:pt x="17679" y="8917"/>
                  <a:pt x="17688" y="8919"/>
                  <a:pt x="17700" y="8923"/>
                </a:cubicBezTo>
                <a:cubicBezTo>
                  <a:pt x="17730" y="8933"/>
                  <a:pt x="17760" y="8944"/>
                  <a:pt x="17789" y="8956"/>
                </a:cubicBezTo>
                <a:cubicBezTo>
                  <a:pt x="17824" y="8970"/>
                  <a:pt x="17865" y="8987"/>
                  <a:pt x="17901" y="8996"/>
                </a:cubicBezTo>
                <a:cubicBezTo>
                  <a:pt x="17949" y="9008"/>
                  <a:pt x="17995" y="9019"/>
                  <a:pt x="18042" y="9033"/>
                </a:cubicBezTo>
                <a:cubicBezTo>
                  <a:pt x="18092" y="9048"/>
                  <a:pt x="18144" y="9063"/>
                  <a:pt x="18192" y="9085"/>
                </a:cubicBezTo>
                <a:cubicBezTo>
                  <a:pt x="18211" y="9094"/>
                  <a:pt x="18230" y="9103"/>
                  <a:pt x="18251" y="9112"/>
                </a:cubicBezTo>
                <a:cubicBezTo>
                  <a:pt x="18262" y="9117"/>
                  <a:pt x="18272" y="9119"/>
                  <a:pt x="18282" y="9125"/>
                </a:cubicBezTo>
                <a:cubicBezTo>
                  <a:pt x="18288" y="9129"/>
                  <a:pt x="18288" y="9132"/>
                  <a:pt x="18293" y="9135"/>
                </a:cubicBezTo>
                <a:cubicBezTo>
                  <a:pt x="18294" y="9138"/>
                  <a:pt x="18295" y="9138"/>
                  <a:pt x="18298" y="9138"/>
                </a:cubicBezTo>
                <a:cubicBezTo>
                  <a:pt x="18296" y="9139"/>
                  <a:pt x="18294" y="9143"/>
                  <a:pt x="18293" y="9143"/>
                </a:cubicBezTo>
                <a:cubicBezTo>
                  <a:pt x="18290" y="9144"/>
                  <a:pt x="18283" y="9142"/>
                  <a:pt x="18282" y="9143"/>
                </a:cubicBezTo>
                <a:cubicBezTo>
                  <a:pt x="18278" y="9146"/>
                  <a:pt x="18274" y="9145"/>
                  <a:pt x="18270" y="9149"/>
                </a:cubicBezTo>
                <a:cubicBezTo>
                  <a:pt x="18265" y="9154"/>
                  <a:pt x="18255" y="9178"/>
                  <a:pt x="18250" y="9186"/>
                </a:cubicBezTo>
                <a:cubicBezTo>
                  <a:pt x="18217" y="9234"/>
                  <a:pt x="18194" y="9296"/>
                  <a:pt x="18166" y="9348"/>
                </a:cubicBezTo>
                <a:cubicBezTo>
                  <a:pt x="18135" y="9406"/>
                  <a:pt x="18110" y="9468"/>
                  <a:pt x="18079" y="9526"/>
                </a:cubicBezTo>
                <a:cubicBezTo>
                  <a:pt x="18059" y="9564"/>
                  <a:pt x="18033" y="9603"/>
                  <a:pt x="18008" y="9638"/>
                </a:cubicBezTo>
                <a:cubicBezTo>
                  <a:pt x="17998" y="9653"/>
                  <a:pt x="17986" y="9669"/>
                  <a:pt x="17973" y="9681"/>
                </a:cubicBezTo>
                <a:cubicBezTo>
                  <a:pt x="17971" y="9681"/>
                  <a:pt x="17971" y="9681"/>
                  <a:pt x="17971" y="9680"/>
                </a:cubicBezTo>
                <a:cubicBezTo>
                  <a:pt x="17978" y="9672"/>
                  <a:pt x="17984" y="9670"/>
                  <a:pt x="17992" y="9660"/>
                </a:cubicBezTo>
                <a:cubicBezTo>
                  <a:pt x="17998" y="9652"/>
                  <a:pt x="18002" y="9644"/>
                  <a:pt x="18007" y="9634"/>
                </a:cubicBezTo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62120" y="3581280"/>
            <a:ext cx="1828800" cy="474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295280" y="4510080"/>
            <a:ext cx="9144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69552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43000" y="2895480"/>
            <a:ext cx="8658000" cy="63828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28600" y="4648320"/>
            <a:ext cx="8686800" cy="60948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71800" y="3105000"/>
            <a:ext cx="3305160" cy="3753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762360" cy="3895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10080" y="304920"/>
            <a:ext cx="32958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1280" y="3147840"/>
            <a:ext cx="9001440" cy="56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1066680" y="4419720"/>
          <a:ext cx="2438640" cy="94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419720"/>
                    <a:ext cx="243864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334120" y="4572000"/>
          <a:ext cx="2361960" cy="91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572000"/>
                    <a:ext cx="236196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4187880" cy="514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2209680" y="228600"/>
          <a:ext cx="4114800" cy="159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228600"/>
                    <a:ext cx="411480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265640" cy="5438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1981080" y="5410080"/>
          <a:ext cx="502920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5410080"/>
                    <a:ext cx="5029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3920" y="1600200"/>
            <a:ext cx="8696160" cy="66672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7040" y="3114720"/>
            <a:ext cx="8629920" cy="62856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915400" cy="1220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752480" y="2209680"/>
            <a:ext cx="4496040" cy="2838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04920" y="5181480"/>
            <a:ext cx="8686800" cy="489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380880" y="5910120"/>
            <a:ext cx="434340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8200" y="3181320"/>
            <a:ext cx="8067600" cy="495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143000" y="4952880"/>
            <a:ext cx="2666880" cy="7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4800600"/>
            <a:ext cx="2514600" cy="1311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96160" y="5397480"/>
            <a:ext cx="1141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63840" y="49528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915400" cy="1220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752480" y="2209680"/>
            <a:ext cx="4496040" cy="2838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33520" y="5197320"/>
            <a:ext cx="8076960" cy="365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533520" y="5911920"/>
            <a:ext cx="46479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915400" cy="1220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752480" y="2209680"/>
            <a:ext cx="4496040" cy="2838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52280" y="5438880"/>
            <a:ext cx="891540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9144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1155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149400" y="2286000"/>
          <a:ext cx="899460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400" y="2286000"/>
                    <a:ext cx="89946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28600" y="3886200"/>
            <a:ext cx="2514600" cy="16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2971800" y="3886200"/>
            <a:ext cx="2895480" cy="193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6095880" y="3886200"/>
            <a:ext cx="2895840" cy="193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1155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149400" y="2286000"/>
          <a:ext cx="8994600" cy="10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400" y="2286000"/>
                    <a:ext cx="89946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295280" y="3886200"/>
            <a:ext cx="2895840" cy="193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5029200" y="3889440"/>
            <a:ext cx="2895480" cy="193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80880" y="3139920"/>
            <a:ext cx="84582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9240" y="2271600"/>
            <a:ext cx="8705520" cy="231480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7010640" cy="488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105520" y="5029200"/>
            <a:ext cx="3608280" cy="1498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04920" y="2895480"/>
            <a:ext cx="3054240" cy="3705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304920" y="1676520"/>
            <a:ext cx="813420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7620120" cy="414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7240" y="1600200"/>
            <a:ext cx="8934480" cy="1495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228600" y="3352680"/>
            <a:ext cx="3533760" cy="30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4724280" y="3276720"/>
            <a:ext cx="36576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7620120" cy="414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228600" y="3352680"/>
            <a:ext cx="3533760" cy="30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724280" y="3276720"/>
            <a:ext cx="3657600" cy="3413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304920" y="1752480"/>
            <a:ext cx="833436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320" y="1676520"/>
            <a:ext cx="8989920" cy="2530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4876920"/>
            <a:ext cx="7162560" cy="825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 an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function, for every point (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) on the graph, the point (-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) is also on the 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3581640" cy="482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200400" y="1143000"/>
            <a:ext cx="3809880" cy="1376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1066680" y="2666880"/>
            <a:ext cx="655344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2590560" cy="606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15920" y="1933560"/>
            <a:ext cx="89121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7772400" cy="51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1295280" y="1981080"/>
          <a:ext cx="5264280" cy="62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81080"/>
                    <a:ext cx="52642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" descr=""/>
          <p:cNvPicPr/>
          <p:nvPr/>
        </p:nvPicPr>
        <p:blipFill>
          <a:blip r:embed="rId5"/>
          <a:srcRect l="0" t="0" r="0" b="31218"/>
          <a:stretch/>
        </p:blipFill>
        <p:spPr>
          <a:xfrm>
            <a:off x="157320" y="3048120"/>
            <a:ext cx="89866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5080" y="685800"/>
            <a:ext cx="8756640" cy="2608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2120" y="4419720"/>
            <a:ext cx="7162560" cy="8254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So  for a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odd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function, for every point (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) on the graph, the point (-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, -</a:t>
            </a:r>
            <a:r>
              <a:rPr b="0" i="1" lang="en-US" sz="2400" spc="-1" strike="noStrike">
                <a:solidFill>
                  <a:srgbClr val="008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) is also on the graph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4080" y="1506600"/>
            <a:ext cx="88344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458200" cy="428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8534520" cy="2886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16765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whether each graph given is an even function, an odd function, or a function that is neither even nor od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3186000"/>
            <a:ext cx="835344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619360" cy="561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8088480" cy="325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90600"/>
            <a:ext cx="8729640" cy="16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8844120" cy="790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18775200">
            <a:off x="504000" y="52876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 Black"/>
              </a:rPr>
              <a:t>IN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385600">
            <a:off x="2818440" y="601956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 Black"/>
              </a:rPr>
              <a:t>DECREA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598800">
            <a:off x="548640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 Black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5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75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2:05:03Z</dcterms:created>
  <dc:creator>Harry S. Mills</dc:creator>
  <dc:description/>
  <dc:language>en-US</dc:language>
  <cp:lastModifiedBy>Harry S. Mills</cp:lastModifiedBy>
  <dcterms:modified xsi:type="dcterms:W3CDTF">2007-12-23T22:07:31Z</dcterms:modified>
  <cp:revision>3</cp:revision>
  <dc:subject/>
  <dc:title>Slide 1</dc:title>
</cp:coreProperties>
</file>